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737-8045-4956-8C08-77AD539C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2D9-C271-4E13-9D2B-4C6F23B5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4D2-9F92-4FCE-9FBE-9124711E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C4C-5ED0-48EC-9170-010003FE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D62-1F01-42C8-97AC-01C42FF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5DC-6DD4-4C3B-82A4-993242B7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11F-33E1-4F61-B474-46DF76B7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D93-6767-4661-98DD-8A9A42A8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215-7BAF-43F1-BE76-64FD1CE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406-B4A5-44BD-AE9A-03590ED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E7A-87CC-4C65-9A0A-9A741464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4FF-50CA-4DDD-9BCD-D01A99C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BFD4-E3B6-499B-A0A8-1DDF040C4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5053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33520" y="54100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Inform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6:44Z</dcterms:created>
  <dc:creator>nline</dc:creator>
  <dc:description/>
  <dc:language>en-US</dc:language>
  <cp:lastModifiedBy>nline</cp:lastModifiedBy>
  <dcterms:modified xsi:type="dcterms:W3CDTF">2009-03-30T16:34:24Z</dcterms:modified>
  <cp:revision>1</cp:revision>
  <dc:subject/>
  <dc:title>Slide 1</dc:title>
</cp:coreProperties>
</file>